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ct" ContentType="image/x-pict"/>
  <Override PartName="/ppt/media/image12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0090-151E-45CE-ACD6-EC19C197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5095-1180-4B96-892F-37BBC8B6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FA39-F037-4C94-8A3F-53C4F92C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84C5-12D4-489A-8FD5-1028E9CF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FDF0-7C20-4B0A-8D33-19E729B5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21F1-3E37-4EC5-856C-A92154E6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C897-D551-4ADF-A46C-5A2CAB91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DEF5-AC4F-414D-A0A5-97EA7812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F7A1-6BAF-454F-9E63-66C896B0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D902-33DF-4527-8DF4-ED89B3E2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5F75-2A03-41C8-9AEC-AFD72716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4226-6238-481E-8012-3FA5CD5F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4C2E-35BD-4DA0-BD23-84B8B6C3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C47E-6E70-4F25-A3DB-BD369BDE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EA6A-D20D-4EE5-A1F4-9F7470EB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50B3-936F-4286-A5DD-431549F4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3FA2-33C1-478C-BCC4-33594B22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7221-BB21-4B3A-958B-32EFEB63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4188-AF4A-44CF-B826-876324B0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F9B4-8DBD-48DF-A0A8-E2FC5CBF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55AA-BAA5-47A8-8B26-C3FBE600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C3FB-F9C1-44E4-9172-C413FBAE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9989-C376-4B7C-B3DC-5384FDCC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DD68-2B7C-40BE-ADA0-C0CD6364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522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08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2280" y="6094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08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3240" y="1828800"/>
              <a:ext cx="9140760" cy="2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50F2-7531-465A-B81E-2A0F6E1D33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F7BF-1752-4E6E-8FB9-1C9FF638C3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Dakota, Sioux, Lakota Tribe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8958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issa Ag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ly Asbe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D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gan Ruet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Spiritual Belief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257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oux Tribe would pray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kan Tanka, the Great Spirit which was the spirit of the East, West, North and South, Mother Earth, and to the Six Dire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eat Spirit represented the unity of all spirits as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imes the men in the tribe would pray in solitude for days at a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19920" y="2133720"/>
            <a:ext cx="2903400" cy="4114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086520" y="6276960"/>
            <a:ext cx="305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snoedel.punt.nl/upload/pla.0/mini-Sioux-Courtship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324480" cy="43113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Transportation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1800" y="2209320"/>
            <a:ext cx="5943600" cy="441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ibe had horses by the mid 1700’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used these to travel and hunt buffalo witch they depended heavily 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ere able to travel longer distances than any other Dakota trib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long distance travels, the tribe used a travois, which is the French word for shafts of a ca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arts were made out of a cart with two wooden poles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ravel by water they used boats covered in bark and buffalo hi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800600"/>
            <a:ext cx="220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sharonsharpe.com/images/travois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Nam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507996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800600" cy="441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oux Tribe has many different names such as, Nakota, Dakota, and Lakot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kota means “people of the forest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kota means “friend” or “all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6019920"/>
            <a:ext cx="480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images.google.com/imgres?imgurl=http://bp3.blogger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Territory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ioux live in the Great Plains (sometimes referred to as the Plain Indians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ve in the northern forests and along the Mississippi River in Minnesot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Territory 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514600" y="685800"/>
          <a:ext cx="624852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685800"/>
                    <a:ext cx="624852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201600" y="1857240"/>
            <a:ext cx="216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hazelb.co.uk/sites/haukola/images/sioux_tribe1.gi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Environment/landscap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05160" y="2057400"/>
            <a:ext cx="3429000" cy="4572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y live on the North and South Dakota border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 landscape of the Sioux tribe was mostly of plain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henever they moved around, they were fairly near the Missouri River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521240" cy="3138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5257800"/>
            <a:ext cx="505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standingrock.org/image/cache/rockflag1.g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Food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581280" y="2209680"/>
            <a:ext cx="5079960" cy="38102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56386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nt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ose, Deer, Elk, Muskrats, Badgers, Otters, Raccoons, Fish, Buffalo, Pigeons, Cranes, Ducks, and Geese depending on the seas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Dakota Gar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n, Pumpkins, Beans, Melons, “Dakota Turnip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609588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images.google.com/imgres?imgurl=http://bp0.blogger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othing 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867280" y="1981080"/>
            <a:ext cx="2998800" cy="4038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619760" cy="4952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ffalo hides were used to mak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bes, Tipi covers, clothing, moccasins, Bags, and Carrying cas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r and Elk were also used to make clot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men used beads and bones and other natural objects that they thought were beautiful to decorate their cloth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men wo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esses and legg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 wo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rts and breechcloth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609588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turtletrack.org/Issues01/Co05192001/Art/Warshirt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Housing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lived in tip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ipis could be moved easily so that they could follow the buffal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would sometimes take 16-18 buffalo hides sewn together to cover one ti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ver was held together by wooden p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would be a whole in the top to allow smoke to leave the tipi so that fires could be built insid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was a smoke flap that would control the temperature inside and keep rain and snow ou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311616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791320" y="6032520"/>
            <a:ext cx="304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images.google.com/imgres?imgurl=http://www.sonofthesouth.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Spiritual Belief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4114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ioux believe that everything has its own spirit that could change and show itself in a different wa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ad ceremonies which were centered around one certain spiri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Dance is a regular custom that takes place before each buffalo hu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4952880" cy="2962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562720" y="5486400"/>
            <a:ext cx="227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deathreference.com/images/medd_01_img0058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7:39:26Z</dcterms:created>
  <dc:creator>Yarmouth Schools</dc:creator>
  <dc:description/>
  <dc:language>en-US</dc:language>
  <cp:lastModifiedBy>Yarmouth Schools</cp:lastModifiedBy>
  <dcterms:modified xsi:type="dcterms:W3CDTF">2008-09-08T17:22:36Z</dcterms:modified>
  <cp:revision>8</cp:revision>
  <dc:subject/>
  <dc:title>Dakota, Sioux, Lakota Tribes</dc:title>
</cp:coreProperties>
</file>